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2640" y="210600"/>
            <a:ext cx="7543800" cy="42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149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42640" y="3236760"/>
            <a:ext cx="7543800" cy="149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2640" y="210600"/>
            <a:ext cx="7543800" cy="42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149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149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2640" y="3236760"/>
            <a:ext cx="3681360" cy="149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08320" y="3236760"/>
            <a:ext cx="3681360" cy="149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2640" y="210600"/>
            <a:ext cx="7543800" cy="42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149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149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149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42640" y="3236760"/>
            <a:ext cx="2428920" cy="149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93240" y="3236760"/>
            <a:ext cx="2428920" cy="149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44200" y="3236760"/>
            <a:ext cx="2428920" cy="149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10600"/>
            <a:ext cx="7543800" cy="42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313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10600"/>
            <a:ext cx="7543800" cy="42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313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210600"/>
            <a:ext cx="7543800" cy="42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313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313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10600"/>
            <a:ext cx="7543800" cy="42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42640" y="210600"/>
            <a:ext cx="7543800" cy="198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210600"/>
            <a:ext cx="7543800" cy="42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149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313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42640" y="3236760"/>
            <a:ext cx="3681360" cy="149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2640" y="210600"/>
            <a:ext cx="7543800" cy="42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313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149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08320" y="3236760"/>
            <a:ext cx="3681360" cy="149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2640" y="210600"/>
            <a:ext cx="7543800" cy="42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149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149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42640" y="3236760"/>
            <a:ext cx="7543800" cy="149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453360" y="6461280"/>
            <a:ext cx="13824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sma ‘99  1/14/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313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spcBef>
                <a:spcPts val="75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751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75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spcBef>
                <a:spcPts val="751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spcBef>
                <a:spcPts val="75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142640" y="210600"/>
            <a:ext cx="7543800" cy="42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" name=""/>
          <p:cNvGraphicFramePr/>
          <p:nvPr/>
        </p:nvGraphicFramePr>
        <p:xfrm>
          <a:off x="7989840" y="6454800"/>
          <a:ext cx="943200" cy="169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989840" y="6454800"/>
                    <a:ext cx="943200" cy="16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"/>
          <p:cNvSpPr/>
          <p:nvPr/>
        </p:nvSpPr>
        <p:spPr>
          <a:xfrm>
            <a:off x="0" y="0"/>
            <a:ext cx="830160" cy="6843600"/>
          </a:xfrm>
          <a:prstGeom prst="rect">
            <a:avLst/>
          </a:prstGeom>
          <a:gradFill rotWithShape="0">
            <a:gsLst>
              <a:gs pos="0">
                <a:srgbClr val="00238c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" name=""/>
          <p:cNvGraphicFramePr/>
          <p:nvPr/>
        </p:nvGraphicFramePr>
        <p:xfrm>
          <a:off x="1143000" y="1066680"/>
          <a:ext cx="7556400" cy="146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143000" y="1066680"/>
                    <a:ext cx="7556400" cy="14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21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NTP Traffic Mod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26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lcore:                 Teun Ot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ry W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BC:                       Scott Tob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tt Shoa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210600"/>
            <a:ext cx="7543800" cy="42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net Traffic Mode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8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spcBef>
                <a:spcPts val="75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  Boston University Data (199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5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NTP:  SBC (199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10600"/>
            <a:ext cx="7543800" cy="42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BC Measuremen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35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spcBef>
                <a:spcPts val="75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direc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5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stam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5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tinatio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 Port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tination Port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Identif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5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cket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10600"/>
            <a:ext cx="7543800" cy="42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alysis of SBC dat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8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spcBef>
                <a:spcPts val="75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N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5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base of pairs of fl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10600"/>
            <a:ext cx="7543800" cy="42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165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spcBef>
                <a:spcPts val="75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, NNTP ~ 95% of bandwid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5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e source models for bo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5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NTP:  Heavy tailed only in number of articles per se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9T13:05:52Z</dcterms:created>
  <dc:creator/>
  <dc:description/>
  <dc:language>en-US</dc:language>
  <cp:lastModifiedBy>Larry Wong</cp:lastModifiedBy>
  <cp:lastPrinted>1999-01-13T17:50:44Z</cp:lastPrinted>
  <dcterms:modified xsi:type="dcterms:W3CDTF">1999-01-13T18:03:32Z</dcterms:modified>
  <cp:revision>21</cp:revision>
  <dc:subject/>
  <dc:title>Rome Laboratories</dc:title>
</cp:coreProperties>
</file>